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53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8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53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8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53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8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129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53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8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996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96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12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499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62560" y="6485040"/>
            <a:ext cx="18864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fld id="{7C580B1F-3C0C-4AE0-83E4-5C82510F0A4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360" y="5666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74960" y="471816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640" y="6607080"/>
            <a:ext cx="291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emens COM MD PBM BA – Decemb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086600" y="6319800"/>
            <a:ext cx="1925640" cy="42876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520" y="3002040"/>
            <a:ext cx="8817120" cy="1598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3240" y="3255840"/>
            <a:ext cx="4249800" cy="61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27080" y="149400"/>
            <a:ext cx="8818560" cy="264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540640" y="8100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086600" y="6319800"/>
            <a:ext cx="1925640" cy="428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2120" algn="ctr">
              <a:spcBef>
                <a:spcPts val="400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624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52388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47560" y="4195800"/>
            <a:ext cx="64008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9280" indent="-179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scriptions of a mobile device: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05 01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rchasing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n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ctions of a mobile device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main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and receive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connections using various stand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ring t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menu, telephone book, calling party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telephone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&amp; standby time for teleph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eal to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ctive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equate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ative 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im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photo /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/ stream / show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/ play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to 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nd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65680" y="1087560"/>
            <a:ext cx="4213080" cy="52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g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 playing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for ga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outdoor/leisure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 from environmental 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ive /outdoor and leisure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able 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messaging standards (e.g. SMS, MMS, IM, POC,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protocols (e.g. IP, SIP,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&amp; Stor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PIM &amp; business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A functi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 viewing and edi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ew &amp; Store business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6840" indent="-186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er additional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innovative services/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920" indent="-185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ocation Base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1840" y="22680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mobile device key purchasing criteri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key purchasing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Necessary Parts (BN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F (Base Band IC, RF, Power Supply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ors (PS (Lumberg)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-Components (analog &amp; discre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 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sensors (e.g. temperature, tilt, acceleration, heart, altimeter, barometer, compass, proximity, smell,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mera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59320" y="1089000"/>
            <a:ext cx="4503600" cy="522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C card holder or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C card or 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ing. Keypad, acou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per &amp; Lowe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unting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pad including ligh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aker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and 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ed access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mobile device key purchasing criteri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gregated description of key purchasing crite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560" y="1087200"/>
            <a:ext cx="4213080" cy="521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p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effects /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nient size and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er and dust 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-s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need of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st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ived to be latest by that point of time (e.g. color display, 1 Mpix camera, WL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lk- and standby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lk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8756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 time – play  “games”, see videos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59320" y="1089000"/>
            <a:ext cx="4503600" cy="522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connection / download (UMTS, EDGE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and synchronization of 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transfer (Bluetooth, IrDA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corporate mail, servers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-/ Receive -/ Stor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S, MMS, Video conferenc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s, Instant messaging, Blogging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 and Flexibility (exchangeable)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ve f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music, vide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to radio, see 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saf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located, or to locate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find a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have coverage, and to contact per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uition dri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 of key strokes (for key func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8756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to enter/ start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09:36:31Z</dcterms:created>
  <dc:creator>Seidenschwarz &amp; Comp. GmbH</dc:creator>
  <dc:description/>
  <dc:language>en-US</dc:language>
  <cp:lastModifiedBy>Dirk Lutterbeck</cp:lastModifiedBy>
  <dcterms:modified xsi:type="dcterms:W3CDTF">2005-05-09T13:24:06Z</dcterms:modified>
  <cp:revision>18</cp:revision>
  <dc:subject/>
  <dc:title>Folie 1</dc:title>
</cp:coreProperties>
</file>